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626-5060-4D27-83D8-2A9D3F03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65D-A076-40E5-AB4F-FF6EA4FB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AC9-2427-426A-9F78-84642723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030-5B73-4CEC-821B-9EEA2BCC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DB7C-49D5-46F3-9ADD-9F6322EC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0B30-81A3-4C04-8999-753CFE55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01B0-9CF4-4884-BF97-7F8E485D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F9B1-69AC-4400-80B6-670F64C2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8772-F357-4C8F-BE18-42AF0F31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C802-8058-478E-8020-6D0B085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4A9-3DA0-4AF0-A927-A42764DE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FDC-1592-4CC4-B716-4095EB1C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821-1B91-4AAF-B4EE-1806F13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9D4-6054-429B-B56B-5B4BF982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D7E2-F234-4271-BC1B-E138F540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C58A-DDAE-4965-8FD0-2F5BAE6D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43F-95BB-4710-A63E-E81B0DF5C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AC5-6FEB-4790-8804-EA9BC9CD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780-FA76-4026-830F-5B116C1E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904-B066-4E0D-B164-214457DE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60A-B84C-4B03-BBB3-1E4F6703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D0C-FB78-497F-BE67-EDFD13DB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9D8-E262-41A6-AF74-24188B0B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E5C-4819-4C33-B699-3C4245E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8DFC-4F90-419C-B5BB-D10401D5BF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B775-42A6-4D74-910B-A183E81C4B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9098" t="54829" r="55119" b="29481"/>
          <a:stretch/>
        </p:blipFill>
        <p:spPr>
          <a:xfrm>
            <a:off x="0" y="1676520"/>
            <a:ext cx="3657600" cy="2881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*In the Text*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 The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114300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nd Sear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5720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nswers are easy to find right in the tex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20708" t="84294" r="56729" b="3263"/>
          <a:stretch/>
        </p:blipFill>
        <p:spPr>
          <a:xfrm>
            <a:off x="5105520" y="1752480"/>
            <a:ext cx="4038480" cy="2884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67080" y="472428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nswers are in the text but found in more than one place so it has to be put togeth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57200"/>
            <a:ext cx="472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k or write your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432756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write your 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05520"/>
            <a:ext cx="1143000" cy="50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rt 7 sounds great but it takes too long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LP time modification (up to double tim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ced students can skip to step 5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tually it should be more internalized and they won’t need the step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What if?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ages with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ph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re than One Passag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ts of Di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ing text boo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05720" y="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ffff"/>
                </a:solidFill>
                <a:latin typeface="Tahoma"/>
              </a:rPr>
              <a:t>Common Grounds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I change it to meet my students nee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I use it differently than other teachers in my building d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mportant is a whole school buy in of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59739" t="56035" r="18378" b="29486"/>
          <a:stretch/>
        </p:blipFill>
        <p:spPr>
          <a:xfrm>
            <a:off x="304920" y="1219320"/>
            <a:ext cx="3276360" cy="280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 My He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or and 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My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0384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swer is not in the text. You have to use what you know and what the author has written to come up with an answe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rcRect l="0" t="2473" r="6419" b="0"/>
          <a:stretch/>
        </p:blipFill>
        <p:spPr>
          <a:xfrm>
            <a:off x="6095880" y="1143000"/>
            <a:ext cx="2362320" cy="3009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419112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e answer is not in the text. You use your own experiences to answer the question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75360"/>
            <a:ext cx="9144000" cy="7826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65880"/>
            <a:ext cx="9144000" cy="609480"/>
          </a:xfrm>
          <a:prstGeom prst="rect">
            <a:avLst/>
          </a:prstGeom>
          <a:solidFill>
            <a:srgbClr val="5f0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627440"/>
            <a:ext cx="9144000" cy="8384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65680"/>
            <a:ext cx="9144000" cy="761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79880"/>
            <a:ext cx="91440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417760"/>
            <a:ext cx="9144000" cy="762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46160"/>
            <a:ext cx="9144000" cy="1371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322280"/>
            <a:ext cx="47242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and box in the title.                                           Trace and number the paragraphs.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every paragraph and                              STOP and THIN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every paragraph and                          highlight key word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d and highlight the key words                     in each question.                         (Question)</a:t>
            </a: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Read each answer and put X ? </a:t>
            </a:r>
            <a:r>
              <a:rPr b="1" lang="en-US" sz="1600" spc="-1" strike="noStrike">
                <a:solidFill>
                  <a:srgbClr val="2b5481"/>
                </a:solidFill>
                <a:latin typeface="Wingdings"/>
                <a:ea typeface="Wingdings"/>
              </a:rPr>
              <a:t></a:t>
            </a: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                  beside each choice.                       (Answer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Prove the answer. Locate the paragraph      where the answer is found.    (Relationshi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5481"/>
                </a:solidFill>
                <a:latin typeface="Arial"/>
              </a:rPr>
              <a:t>Mark or write your ans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2b548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00600" y="1311120"/>
            <a:ext cx="4572000" cy="5934600"/>
            <a:chOff x="4800600" y="1311120"/>
            <a:chExt cx="4572000" cy="5934600"/>
          </a:xfrm>
        </p:grpSpPr>
        <p:sp>
          <p:nvSpPr>
            <p:cNvPr id="105" name=""/>
            <p:cNvSpPr/>
            <p:nvPr/>
          </p:nvSpPr>
          <p:spPr>
            <a:xfrm>
              <a:off x="4800600" y="1311120"/>
              <a:ext cx="4572000" cy="59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ry paragraph and S&amp;T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ry paragraph and highlight key words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ffffff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d highlight the key words                     in each ?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                                       (Q)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 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each answer and X ? </a:t>
              </a:r>
              <a:r>
                <a:rPr b="1" lang="en-US" sz="1600" spc="-1" strike="noStrike">
                  <a:solidFill>
                    <a:srgbClr val="2b5481"/>
                  </a:solidFill>
                  <a:latin typeface="Wingdings"/>
                  <a:ea typeface="Wingdings"/>
                </a:rPr>
                <a:t>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.               (A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Prove the answer.    P#                        (R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       </a:t>
              </a:r>
              <a:r>
                <a:rPr b="1" lang="en-US" sz="1600" spc="-1" strike="noStrike">
                  <a:solidFill>
                    <a:srgbClr val="2b5481"/>
                  </a:solidFill>
                  <a:latin typeface="Arial"/>
                </a:rPr>
                <a:t>or write your answ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2b5481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38240" y="1351080"/>
              <a:ext cx="1533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tle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85760" y="182880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agraph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1357200"/>
              <a:ext cx="12193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93960" y="1662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7440" y="19670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97440" y="173844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97440" y="17384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7440" y="22716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7440" y="20430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7440" y="2043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81480" y="2494080"/>
              <a:ext cx="152280" cy="304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10080" y="2494080"/>
              <a:ext cx="152280" cy="304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2644920"/>
              <a:ext cx="75960" cy="15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2644920"/>
              <a:ext cx="75960" cy="15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81480" y="32558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10080" y="32558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57800" y="34084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3408480"/>
              <a:ext cx="7596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39416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10080" y="3941640"/>
              <a:ext cx="152280" cy="3049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4095720"/>
              <a:ext cx="759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095720"/>
              <a:ext cx="7596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4703760"/>
              <a:ext cx="152280" cy="304920"/>
            </a:xfrm>
            <a:prstGeom prst="ellipse">
              <a:avLst/>
            </a:prstGeom>
            <a:noFill/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4703760"/>
              <a:ext cx="152280" cy="304920"/>
            </a:xfrm>
            <a:prstGeom prst="ellipse">
              <a:avLst/>
            </a:prstGeom>
            <a:noFill/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4856040"/>
              <a:ext cx="75960" cy="15264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4856040"/>
              <a:ext cx="75960" cy="15264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1480" y="6351480"/>
              <a:ext cx="380880" cy="76320"/>
            </a:xfrm>
            <a:prstGeom prst="ellipse">
              <a:avLst/>
            </a:prstGeom>
            <a:solidFill>
              <a:srgbClr val="2b5481"/>
            </a:solidFill>
            <a:ln w="9360">
              <a:solidFill>
                <a:srgbClr val="2b5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47920"/>
            <a:ext cx="4572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and box in the title.                                           Trace and number the paragraphs.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191120" y="4468680"/>
            <a:ext cx="5039280" cy="4360320"/>
            <a:chOff x="4191120" y="4468680"/>
            <a:chExt cx="5039280" cy="4360320"/>
          </a:xfrm>
        </p:grpSpPr>
        <p:sp>
          <p:nvSpPr>
            <p:cNvPr id="137" name=""/>
            <p:cNvSpPr/>
            <p:nvPr/>
          </p:nvSpPr>
          <p:spPr>
            <a:xfrm>
              <a:off x="4191120" y="4468680"/>
              <a:ext cx="457164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         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9320" y="5442120"/>
              <a:ext cx="297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Paragraph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84120" y="5165640"/>
              <a:ext cx="746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5486040" y="5241960"/>
              <a:ext cx="761400" cy="1066320"/>
              <a:chOff x="5486040" y="5241960"/>
              <a:chExt cx="761400" cy="1066320"/>
            </a:xfrm>
          </p:grpSpPr>
          <p:sp>
            <p:nvSpPr>
              <p:cNvPr id="141" name=""/>
              <p:cNvSpPr/>
              <p:nvPr/>
            </p:nvSpPr>
            <p:spPr>
              <a:xfrm>
                <a:off x="5486040" y="569916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6040" y="524196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040" y="52419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6040" y="585108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486040" y="585108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86040" y="6308280"/>
                <a:ext cx="761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105160" y="4479840"/>
              <a:ext cx="2666520" cy="609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990720"/>
            <a:ext cx="4724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every paragraph and                              STOP and THINK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387440"/>
            <a:ext cx="52578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ry paragraph and S&amp;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800600" y="3505320"/>
            <a:ext cx="1141920" cy="933840"/>
            <a:chOff x="4800600" y="3505320"/>
            <a:chExt cx="1141920" cy="933840"/>
          </a:xfrm>
        </p:grpSpPr>
        <p:sp>
          <p:nvSpPr>
            <p:cNvPr id="153" name=""/>
            <p:cNvSpPr/>
            <p:nvPr/>
          </p:nvSpPr>
          <p:spPr>
            <a:xfrm>
              <a:off x="480060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604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09480"/>
            <a:ext cx="4724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every paragraph and                          highlight key wo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108240"/>
            <a:ext cx="457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ery paragraph and highlight key wo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4120" y="3505320"/>
            <a:ext cx="1141920" cy="933840"/>
            <a:chOff x="5334120" y="3505320"/>
            <a:chExt cx="1141920" cy="933840"/>
          </a:xfrm>
        </p:grpSpPr>
        <p:sp>
          <p:nvSpPr>
            <p:cNvPr id="162" name=""/>
            <p:cNvSpPr/>
            <p:nvPr/>
          </p:nvSpPr>
          <p:spPr>
            <a:xfrm>
              <a:off x="533412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560" y="35053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272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39679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"/>
            <a:ext cx="4724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ad and highlight the key words                     in each question.                         (Question)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5596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highlight the key words in each ?                   (Q)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3276720"/>
            <a:ext cx="1141920" cy="933840"/>
            <a:chOff x="5181480" y="3276720"/>
            <a:chExt cx="1141920" cy="933840"/>
          </a:xfrm>
        </p:grpSpPr>
        <p:sp>
          <p:nvSpPr>
            <p:cNvPr id="171" name=""/>
            <p:cNvSpPr/>
            <p:nvPr/>
          </p:nvSpPr>
          <p:spPr>
            <a:xfrm>
              <a:off x="5181480" y="32767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66920" y="3276720"/>
              <a:ext cx="456480" cy="933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37393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3739320"/>
              <a:ext cx="227520" cy="47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136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 each answer and put X ?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        beside each choice.                       (Answer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718080"/>
            <a:ext cx="5334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answer and   X ?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A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419720" y="4114800"/>
            <a:ext cx="1141920" cy="933840"/>
            <a:chOff x="4419720" y="4114800"/>
            <a:chExt cx="1141920" cy="933840"/>
          </a:xfrm>
        </p:grpSpPr>
        <p:sp>
          <p:nvSpPr>
            <p:cNvPr id="180" name=""/>
            <p:cNvSpPr/>
            <p:nvPr/>
          </p:nvSpPr>
          <p:spPr>
            <a:xfrm>
              <a:off x="4419720" y="4114800"/>
              <a:ext cx="456480" cy="933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160" y="4114800"/>
              <a:ext cx="456480" cy="933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8320" y="4577400"/>
              <a:ext cx="227520" cy="47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4120" y="4577400"/>
              <a:ext cx="227520" cy="471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05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ff"/>
                </a:solidFill>
                <a:latin typeface="Arial"/>
              </a:rPr>
              <a:t>Smart 7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04920"/>
            <a:ext cx="5638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e the answer. Locate the paragraph where the answer is found.    (Relationshi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191120"/>
            <a:ext cx="48006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e the answer.    P#                        (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ve It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3:47:36Z</dcterms:created>
  <dc:creator>kcarney</dc:creator>
  <dc:description/>
  <dc:language>en-US</dc:language>
  <cp:lastModifiedBy>critzius</cp:lastModifiedBy>
  <dcterms:modified xsi:type="dcterms:W3CDTF">2010-04-15T18:00:02Z</dcterms:modified>
  <cp:revision>3</cp:revision>
  <dc:subject/>
  <dc:title>Slide 1</dc:title>
</cp:coreProperties>
</file>